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DDBB-FA12-4FFD-B851-ACECD499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5549-4B6C-4469-B2D3-F2FC7D0A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650C-031E-47A2-978E-36D3751A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F10-71F1-47F5-9252-1196F1BE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252-E9B6-4FE7-ADDA-873D2460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6BDA-56CB-4261-8D4A-EC6655BB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1D0D-00F2-4251-B755-17DD0C630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C0B-695F-4C05-BCE8-0B8DD7C5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B60-7880-419A-B5A2-A8AF7D44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2C4-08B4-42C3-9990-84B109E6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FC1-40C3-4FB5-8140-EB3030E3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912-4AC0-4BF8-ABB7-8324CD1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66D-A385-4EB6-9B2C-D99256B0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4E9-FA9C-4C5D-9034-BCCDD974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87A-3608-4703-8F2C-49658964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46B-AE58-40F0-A7B1-48BD627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193-AF1A-4A8A-BAA0-903CD6D8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BFD-7109-4B74-9530-191C36A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98C-B23F-405C-8ED2-467650F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1F2-6D21-451E-9B1F-A67FF1E4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7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6"/>
          <p:cNvSpPr/>
          <p:nvPr/>
        </p:nvSpPr>
        <p:spPr>
          <a:xfrm>
            <a:off x="611280" y="1841400"/>
            <a:ext cx="738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ablish a common understanding of good paragraph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6"/>
          <p:cNvSpPr/>
          <p:nvPr/>
        </p:nvSpPr>
        <p:spPr>
          <a:xfrm>
            <a:off x="611280" y="1371600"/>
            <a:ext cx="7389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graph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a paragraph to show your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op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para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"/>
          <p:cNvSpPr/>
          <p:nvPr/>
        </p:nvSpPr>
        <p:spPr>
          <a:xfrm>
            <a:off x="611280" y="1371600"/>
            <a:ext cx="738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ponents of a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tatement or Topic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s/summarises main idea of the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upporting Details (Explanation and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etails to develop and support main idea of the paragraph eg facts, details,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osing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s / ‘rounds off’ main idea of paragraph. Establish link to next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6"/>
          <p:cNvSpPr/>
          <p:nvPr/>
        </p:nvSpPr>
        <p:spPr>
          <a:xfrm>
            <a:off x="611280" y="1371600"/>
            <a:ext cx="73897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graph Wri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X / SEE – Statement / Explanation /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ED - Statement / Explanation / Example /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ED - Statement / Explanation / Example /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PE – Assertion / Proof /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e Effective Literacy Strategies page 140 for mor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066680" y="1143000"/>
            <a:ext cx="6632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96003f"/>
                </a:solidFill>
                <a:latin typeface="Arial Narrow"/>
                <a:ea typeface="Arial Narro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 Narrow"/>
              </a:rPr>
              <a:t>Writin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6"/>
          <p:cNvSpPr/>
          <p:nvPr/>
        </p:nvSpPr>
        <p:spPr>
          <a:xfrm>
            <a:off x="762120" y="2209680"/>
            <a:ext cx="7772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stages – pre-writing, writing, editing, publishing/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4 modes as much as possible – speaking, reading, writing,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caffold ………..  Remove scaf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752480" y="1219320"/>
            <a:ext cx="3429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971640" y="1773360"/>
            <a:ext cx="68040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246480" y="5673600"/>
            <a:ext cx="2894040" cy="1222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6229440" y="5689440"/>
            <a:ext cx="2822400" cy="119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204840" y="5673600"/>
            <a:ext cx="2895480" cy="1222560"/>
          </a:xfrm>
          <a:prstGeom prst="rect">
            <a:avLst/>
          </a:prstGeom>
          <a:ln w="0">
            <a:noFill/>
          </a:ln>
        </p:spPr>
      </p:pic>
      <p:pic>
        <p:nvPicPr>
          <p:cNvPr id="88" name="04 Track 04-2" descr="04 Track 04-2"/>
          <p:cNvPicPr/>
          <p:nvPr/>
        </p:nvPicPr>
        <p:blipFill>
          <a:blip r:embed="rId4"/>
          <a:stretch/>
        </p:blipFill>
        <p:spPr>
          <a:xfrm>
            <a:off x="206280" y="6093000"/>
            <a:ext cx="6066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8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9"/>
          <p:cNvGraphicFramePr/>
          <p:nvPr/>
        </p:nvGraphicFramePr>
        <p:xfrm>
          <a:off x="208080" y="206280"/>
          <a:ext cx="1753920" cy="525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080" y="206280"/>
                    <a:ext cx="17539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1"/>
          <p:cNvSpPr/>
          <p:nvPr/>
        </p:nvSpPr>
        <p:spPr>
          <a:xfrm>
            <a:off x="546120" y="1700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 Black"/>
              </a:rPr>
              <a:t>What are the implications for my practice / dep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 Black"/>
              </a:rPr>
              <a:t>What are my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268360" y="981000"/>
            <a:ext cx="43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88100b"/>
                </a:solidFill>
                <a:latin typeface="Arial Black"/>
              </a:rPr>
              <a:t>Reflectiv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32:59Z</dcterms:created>
  <dc:creator>kane</dc:creator>
  <dc:description/>
  <dc:language>en-US</dc:language>
  <cp:lastModifiedBy>Siliva Gaugatao</cp:lastModifiedBy>
  <cp:lastPrinted>2012-07-31T21:20:52Z</cp:lastPrinted>
  <dcterms:modified xsi:type="dcterms:W3CDTF">2012-11-30T02:19:54Z</dcterms:modified>
  <cp:revision>408</cp:revision>
  <dc:subject/>
  <dc:title>Slide 1</dc:title>
</cp:coreProperties>
</file>